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392-C810-4C33-ABED-90F67F8D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44E-9D9D-431D-826C-22E52868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BCC-E485-495C-A02D-45A0FAD3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408-3B1F-4645-B002-9F7F0217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1310-4F85-481D-A82F-561A9CB3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2C90-D149-414F-8951-662BE0AF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EB0C-D9B1-4288-9E08-DFF566E2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9126-B2A5-4626-A797-1B8E5C7B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8D45-6BBA-4322-ACF0-D6718EFB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A0F1-A589-429D-884A-496C81D2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1C16-60A1-4E7F-BF62-D8F58647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66A-AACB-4D70-A44F-2B9BD442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C0CE-EAC1-4046-9051-5AED02F6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F260-C7CA-4B83-A37E-9A521851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0803-AE81-4C37-BDDB-370A3230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C713-45CB-4EB9-A107-1B6EEB57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DDB4-FC92-4FFF-B63C-388C4883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9573-D7A0-455A-9EAD-483A4342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467EE-4855-40C8-85E1-1BBD74D8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75652-88D1-45C9-B083-F1909778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8751-F950-4060-B58B-D5291BE5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CFEC3-A77D-4E7D-A6C1-7EBCC8BA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660-2799-43FB-B2EE-6EE3BF24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8FDF-E2C0-4435-86CB-490F39D8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0AAC-C5BD-4205-831A-2F3A4A7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E21E-B26F-4C54-A126-A6C3C578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0B7D-BBE5-45F2-B708-BD7412D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7A816-C6B2-4030-934C-65657401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B9AE-6D6F-44CD-9210-A3A14735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ACF5-2A5A-4D20-B21D-79ADFF22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07ECC-53F9-4FE6-A471-9EFD1F80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54C5-01FB-48CB-A429-30A566CE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4EC2E-21E7-45C3-8B09-5970302A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D10-D431-4000-97D4-7826B174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463E-70F8-4529-9D79-BCD284E5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1C7E-FAD1-4065-906A-576E80A6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44464-3C9C-4A96-84FD-7861DB89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37952-7EAE-478B-B0E0-C1FC873F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C92B-9D1B-4079-8C3E-58BC1780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68CB-E9CA-4702-9D7F-33BD0FC1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9BDF3-9A83-4F8F-9881-86437E33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A894-2E9B-4211-8268-70AC9667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3682E-91DA-430F-94CB-E3AC0EF8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56766-CC3B-42EF-A50F-3319D6B3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405-6FF2-4B65-ABB9-6CADF95A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0C835-A437-47E5-85F9-776B4887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07A60-EB97-4C47-A44A-8E876C55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97488-4417-4A46-BEC8-E48DC57F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E04A3-8A90-45EE-AC9D-87AF261D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0006F-8892-4EE1-BB98-0E913697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C7E96-8A3C-4138-A3EA-B7F63C1E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330BD-B502-4122-8B94-75F3A6C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FE914-A71C-4E0F-AB73-33E94D5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47CB-238E-4A6D-BE29-ECDB13D4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4C062-5290-429B-86F7-1E4EB7DC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16D-8D67-457C-98D5-C62B7CA3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EC687-5A66-4AAA-B90F-BAEAF597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2D800-CCEB-43C4-9D99-77B1020B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AD8B-2C28-4A1B-A250-E05A7BD1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36DC-E384-4B85-BCA9-C1F7F77F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BE4B3-EEF3-45BF-B7E7-4F413B58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EF18F-CC7A-4A39-B1D6-EF10E1C9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C7E20-48DF-4149-A78A-B518E89A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EF1FB-F987-4A42-9466-1C1454B2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B0D51-EF66-4A16-876E-EA5A4461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AA39F-2574-474F-B0BA-8C219CA4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F29-F2CE-4000-8FC5-3444B881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09AE7-5CD0-4A88-BAB8-43BEBFBB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A3CC3-93A6-4141-87A3-BF492497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5361B-77C7-4B9E-A9B9-2271845A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CA3D-E0A3-4E5A-9392-D82E774B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30619-D5CF-4EB0-A627-276D3A15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661F2-A846-467F-BC8A-44179FD9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3F934-0F7A-41B6-B114-A0F24062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29B15-E2FE-4293-83CD-715C5A8F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E9BA0-CA53-4552-B45D-05F8EEA4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3DD99-7916-4C53-BCDC-BF3C064F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7ED-8490-4344-B29D-2F9D980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1CB8E-AB34-47C2-851E-949C0C20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8C9A5-7C4E-464D-B3D1-94CE0949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CC775-77AA-464B-A226-3F76536D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19D82-98C3-4513-BCAD-50E88329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12535-861C-46BA-A8A0-0E219143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66378-1FB2-4A97-A3F8-C188F015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66DE4-F698-4CC2-9811-DCB81478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993A1-CE9E-4CF3-B039-54D0E1A2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A8E29-D60B-44E7-96E6-9F677D5D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A0830-A643-4F35-86B0-9A944774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04E-9901-47B5-94DC-0E5E0B31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F47FD-92AD-40D0-9559-FD90A673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892F8-6267-4A38-903C-8A1F8880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0B21A-9EB8-407F-BEA3-7BC8411A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74EB9-1995-412F-ABA3-3B8F3AC7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5DB72-3CD8-49D8-BEB1-CABA3877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93F80-190A-453C-87EB-092C8BBB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E4BFF-E9CC-466F-BFB6-D00BFCD9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4126-5BFB-4D5E-83D7-131414DBCA9E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E218-F5AB-4A67-AE5E-25FA96E1CBCD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52D9-C227-4200-B52E-4FB31B32082E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04A5-6A55-427A-AF77-9C1710206FE1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5D38-F27A-4BD5-8F71-4A912C16F678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1666-CFAC-413E-89ED-A625B1E0649A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14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15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16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13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10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11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12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17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18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19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20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EA99-C4ED-410A-B28B-140B2114870D}" type="slidenum">
              <a:rPr b="0" lang="en-CA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9EA5-B0F1-4574-A2AA-49CFF4D3147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Unit 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Align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Right Justif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Picture 2" descr="http://papress.com/thinkingwithtype/text/text_images/text_images/alignment_right_02.gif"/>
          <p:cNvPicPr/>
          <p:nvPr/>
        </p:nvPicPr>
        <p:blipFill>
          <a:blip r:embed="rId1"/>
          <a:stretch/>
        </p:blipFill>
        <p:spPr>
          <a:xfrm>
            <a:off x="4572000" y="1714680"/>
            <a:ext cx="4200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Align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040" y="178452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Centre Justif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3" name="Picture 2" descr="http://papress.com/thinkingwithtype/text/text_images/text_images/alignment_centered_02.gif"/>
          <p:cNvPicPr/>
          <p:nvPr/>
        </p:nvPicPr>
        <p:blipFill>
          <a:blip r:embed="rId1"/>
          <a:stretch/>
        </p:blipFill>
        <p:spPr>
          <a:xfrm>
            <a:off x="4000680" y="1500120"/>
            <a:ext cx="4870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Align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14040" y="1784520"/>
            <a:ext cx="280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Full Justif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6" name="Picture 2" descr="http://papress.com/thinkingwithtype/text/text_images/text_images/alignment_justified_02.gif"/>
          <p:cNvPicPr/>
          <p:nvPr/>
        </p:nvPicPr>
        <p:blipFill>
          <a:blip r:embed="rId1"/>
          <a:stretch/>
        </p:blipFill>
        <p:spPr>
          <a:xfrm>
            <a:off x="3857760" y="1500120"/>
            <a:ext cx="461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Align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Choose by clicking the appropriate ic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5429160" y="2643120"/>
            <a:ext cx="25718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606600"/>
            <a:ext cx="77738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aragraph Format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38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2c1102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rbel"/>
              </a:rPr>
              <a:t>Indenta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41240" indent="-284040">
              <a:spcBef>
                <a:spcPts val="601"/>
              </a:spcBef>
              <a:buClr>
                <a:srgbClr val="2c1102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ffffff"/>
                </a:solidFill>
                <a:latin typeface="Corbel"/>
              </a:rPr>
              <a:t>Left:</a:t>
            </a:r>
            <a:r>
              <a:rPr b="0" lang="en-CA" sz="2200" spc="-1" strike="noStrike">
                <a:solidFill>
                  <a:srgbClr val="ffffff"/>
                </a:solidFill>
                <a:latin typeface="Corbel"/>
              </a:rPr>
              <a:t> indents the entire paragraph from the left-hand sid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41240" indent="-284040">
              <a:spcBef>
                <a:spcPts val="601"/>
              </a:spcBef>
              <a:buClr>
                <a:srgbClr val="2c1102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ffffff"/>
                </a:solidFill>
                <a:latin typeface="Corbel"/>
              </a:rPr>
              <a:t>Right:</a:t>
            </a:r>
            <a:r>
              <a:rPr b="0" lang="en-CA" sz="2200" spc="-1" strike="noStrike">
                <a:solidFill>
                  <a:srgbClr val="ffffff"/>
                </a:solidFill>
                <a:latin typeface="Corbel"/>
              </a:rPr>
              <a:t> indents the entire paragraph from the right-hand sid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41240" indent="-284040">
              <a:spcBef>
                <a:spcPts val="601"/>
              </a:spcBef>
              <a:buClr>
                <a:srgbClr val="2c1102"/>
              </a:buClr>
              <a:buSzPct val="9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ffffff"/>
                </a:solidFill>
                <a:latin typeface="Corbel"/>
              </a:rPr>
              <a:t>Special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CA" sz="2000" spc="-1" strike="noStrike">
                <a:solidFill>
                  <a:srgbClr val="ffffff"/>
                </a:solidFill>
                <a:latin typeface="Corbel"/>
              </a:rPr>
              <a:t>First Line: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 indents only the first line of each paragraph from the left-hand si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CA" sz="2000" spc="-1" strike="noStrike">
                <a:solidFill>
                  <a:srgbClr val="ffffff"/>
                </a:solidFill>
                <a:latin typeface="Corbel"/>
              </a:rPr>
              <a:t>Hanging: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 does not indent the first line but indents every other line from the left-hand side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606600"/>
            <a:ext cx="77738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sert a Hyperlin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When text is a hyperlink, it appears blue, bold, and underline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Corbel"/>
              </a:rPr>
              <a:t>Right-click</a:t>
            </a: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 on the link or hold the </a:t>
            </a:r>
            <a:r>
              <a:rPr b="1" lang="en-CA" sz="3000" spc="-1" strike="noStrike">
                <a:solidFill>
                  <a:srgbClr val="ffffff"/>
                </a:solidFill>
                <a:latin typeface="Corbel"/>
              </a:rPr>
              <a:t>CTRL</a:t>
            </a: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 key while </a:t>
            </a:r>
            <a:r>
              <a:rPr b="1" lang="en-CA" sz="3000" spc="-1" strike="noStrike">
                <a:solidFill>
                  <a:srgbClr val="ffffff"/>
                </a:solidFill>
                <a:latin typeface="Corbel"/>
              </a:rPr>
              <a:t>Left-Clicking</a:t>
            </a: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 to access the website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To create a hyperlink, select the text, right-click on it, and click on character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2c1102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Enter the Hyperlink under the Hyperlink Ta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yperlin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65" name="Object 4"/>
          <p:cNvGraphicFramePr/>
          <p:nvPr/>
        </p:nvGraphicFramePr>
        <p:xfrm>
          <a:off x="971640" y="1844640"/>
          <a:ext cx="7488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7488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c1eeff"/>
                </a:solidFill>
                <a:latin typeface="Consolas"/>
              </a:rPr>
              <a:t>Word-Processing Software Uses</a:t>
            </a:r>
            <a:endParaRPr b="0" lang="en-US" sz="3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Input, Process, Save, Edit and Revise written communica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Produce professionally formatted docu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2" name="Picture 2" descr="http://www.apps4rent.com/images/ikat_documentXsmall.jpg"/>
          <p:cNvPicPr/>
          <p:nvPr/>
        </p:nvPicPr>
        <p:blipFill>
          <a:blip r:embed="rId1"/>
          <a:stretch/>
        </p:blipFill>
        <p:spPr>
          <a:xfrm>
            <a:off x="4643280" y="35719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WP Progra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Microsoft Wor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Open Office Writer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Corel Word Perfec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rbel"/>
              </a:rPr>
              <a:t>iWork for Mac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5" name="Picture 2" descr="http://www.mswordhelp.com/wp-content/uploads/2011/04/word-logo.png"/>
          <p:cNvPicPr/>
          <p:nvPr/>
        </p:nvPicPr>
        <p:blipFill>
          <a:blip r:embed="rId1"/>
          <a:stretch/>
        </p:blipFill>
        <p:spPr>
          <a:xfrm>
            <a:off x="6429240" y="28584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ttp://t1.gstatic.com/images?q=tbn:ANd9GcSTHhc_QBmNXZ2Lby__2dbp-covxsXeA4WJ7-kfdLKLIMP8Yr7DynHrYez7"/>
          <p:cNvPicPr/>
          <p:nvPr/>
        </p:nvPicPr>
        <p:blipFill>
          <a:blip r:embed="rId2"/>
          <a:stretch/>
        </p:blipFill>
        <p:spPr>
          <a:xfrm>
            <a:off x="6500880" y="2286000"/>
            <a:ext cx="2143080" cy="1319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http://www.ijailbreak.com/wp-content/uploads/2012/07/iWork-12-Coming-Soon.jpg"/>
          <p:cNvPicPr/>
          <p:nvPr/>
        </p:nvPicPr>
        <p:blipFill>
          <a:blip r:embed="rId3"/>
          <a:stretch/>
        </p:blipFill>
        <p:spPr>
          <a:xfrm>
            <a:off x="6500880" y="4643280"/>
            <a:ext cx="1785960" cy="1587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http://www.file-extensions.org/imgs/company-logo/28/corel-corporation.png"/>
          <p:cNvPicPr/>
          <p:nvPr/>
        </p:nvPicPr>
        <p:blipFill>
          <a:blip r:embed="rId4"/>
          <a:stretch/>
        </p:blipFill>
        <p:spPr>
          <a:xfrm>
            <a:off x="6500880" y="30718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Page Sizes/Orient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288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Two common paper sizes used: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9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Letter – 8 ½ inches x 11 inches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9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Legal – 8 ½ inches x 14 inches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Two common types of page orientation: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9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Portrait – longer than it is wide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9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Corbel"/>
              </a:rPr>
              <a:t>Landscape – wider than it is long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Page Size/Orient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Drop Down Menu  -&gt; Format -&gt; Pa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2508120" cy="2786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4071960" y="2500200"/>
            <a:ext cx="46814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Margins (Frame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784520"/>
            <a:ext cx="5657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White space around all sides of the docu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Default settings for margi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02720" indent="-2714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3 Reaso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Unprofessional  look– would fill the whole pag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Binding the docu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945360" indent="-21708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rbel"/>
              </a:rPr>
              <a:t>Printers are unable to print in that space (1.3 cm minimu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7" name="Picture 4" descr="Default layout inserts margins"/>
          <p:cNvPicPr/>
          <p:nvPr/>
        </p:nvPicPr>
        <p:blipFill>
          <a:blip r:embed="rId1"/>
          <a:stretch/>
        </p:blipFill>
        <p:spPr>
          <a:xfrm>
            <a:off x="6500880" y="1857240"/>
            <a:ext cx="2357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Margi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Drop Down Menu  -&gt; Format -&gt; Pa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2508120" cy="27860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4000680" y="2643120"/>
            <a:ext cx="4330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MARGI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943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rbel"/>
              </a:rPr>
              <a:t>Margins can also be adjusted by manually dragging the grey area at the top of the page. 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4" name="Picture 4" descr="Untitled-4"/>
          <p:cNvPicPr/>
          <p:nvPr/>
        </p:nvPicPr>
        <p:blipFill>
          <a:blip r:embed="rId1"/>
          <a:stretch/>
        </p:blipFill>
        <p:spPr>
          <a:xfrm>
            <a:off x="6934320" y="2057400"/>
            <a:ext cx="765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1eeff"/>
                </a:solidFill>
                <a:latin typeface="Consolas"/>
              </a:rPr>
              <a:t>Align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orbel"/>
              </a:rPr>
              <a:t>Left Justif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2" descr="http://papress.com/thinkingwithtype/text/text_images/text_images/alignment_left_02.gif"/>
          <p:cNvPicPr/>
          <p:nvPr/>
        </p:nvPicPr>
        <p:blipFill>
          <a:blip r:embed="rId1"/>
          <a:stretch/>
        </p:blipFill>
        <p:spPr>
          <a:xfrm>
            <a:off x="4214880" y="1571760"/>
            <a:ext cx="4611600" cy="47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00:51:43Z</dcterms:created>
  <dc:creator>Mary</dc:creator>
  <dc:description/>
  <dc:language>en-US</dc:language>
  <cp:lastModifiedBy>Katherine Vlug</cp:lastModifiedBy>
  <dcterms:modified xsi:type="dcterms:W3CDTF">2015-10-13T16:22:32Z</dcterms:modified>
  <cp:revision>12</cp:revision>
  <dc:subject/>
  <dc:title>word-processing software</dc:title>
</cp:coreProperties>
</file>